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201-80A2-4785-B058-486C5746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A80-57DF-4A16-A4EF-D79C208E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9D9-D3BB-4369-BB43-C2D8B1F6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0E6-5905-49CA-885F-E848A83E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02D-2EF4-40A4-8248-57C9E0B7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445-9892-497B-B9CB-E72D8663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326-750C-4C40-9B55-0671FC76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DB7-6958-463D-97B1-53181AB8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1B5-92C6-48A0-B8EF-D9CBC844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5CF-A508-4648-B4F7-3BD5A90B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A47-BF15-405B-A85E-F2F97E8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89D-BACC-44E2-8947-ACEA8EB8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84E0-A001-40C9-AE30-38D0827DD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דואים   -  בדוו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2481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ר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ילה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29160" y="2362320"/>
            <a:ext cx="5514840" cy="413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40006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דוא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אוהל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אוהל  בדוא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שטיח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4753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טו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מילה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77120" y="1514520"/>
            <a:ext cx="1724040" cy="5343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ח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דקה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05520" y="179064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מדב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גבר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בדווי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4995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וגבר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גבר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זרת  __ __ __ __ _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עזרת     נשים   בבית כנס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גברים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302280" cy="4524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אוהל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שטיח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5480" y="2189160"/>
            <a:ext cx="49532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8800"/>
            </a:b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דקה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INU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533760" cy="3495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6750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191120" y="3352680"/>
            <a:ext cx="26096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גבר  (</a:t>
            </a:r>
            <a:r>
              <a:rPr b="1" lang="he-IL" sz="4800" spc="-1" strike="noStrike">
                <a:solidFill>
                  <a:srgbClr val="000000"/>
                </a:solidFill>
                <a:latin typeface="Arial"/>
              </a:rPr>
              <a:t>בדואי במדבר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7400" y="18478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ילה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60199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מיל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(במילון 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WORD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8676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לה    מילים      במיל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ליעזר  בן  יהוד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3809880" cy="3686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8573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מיל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יפות  לסבא  וסבת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9880" y="2343240"/>
            <a:ext cx="50292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23:42:21Z</dcterms:created>
  <dc:creator>Preferred Customer</dc:creator>
  <dc:description/>
  <dc:language>en-US</dc:language>
  <cp:lastModifiedBy>aschlezinger</cp:lastModifiedBy>
  <dcterms:modified xsi:type="dcterms:W3CDTF">2011-02-17T18:44:54Z</dcterms:modified>
  <cp:revision>3</cp:revision>
  <dc:subject/>
  <dc:title>בדואים   -  בדווים  </dc:title>
</cp:coreProperties>
</file>